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1DF-B2FB-40AC-B730-4762F5BE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6A1-FAB4-40A7-93BC-FFF199C2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431-4E8D-4808-A276-69D552A2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2F1-2BA6-4F1E-8231-9A82C909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6A1E-B3B2-4F09-8D6B-BFE2C7E4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D2B9-1CA4-4E61-8D95-A1008F69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6510-2FF4-4CB4-AB42-3E7257B6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D231-99A4-4369-84C7-9641D11D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22EA-3125-4129-8260-B5FEEE41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D410-3077-4DC4-9817-EEA64EC9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4383-97A8-4979-8DBF-1F4CE067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2926-EEC2-41CA-BA5E-511863EC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C188-887B-4E94-A106-78D161D0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5DE0-5F4D-4D4C-96AE-75EC807B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B998-AC03-4286-8AC0-B2BBADD8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AD60-2ADC-4907-892D-42E68AD9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4FB3-1AA5-4B62-9E26-CD34243D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2D0-00B1-409F-9DE8-552568EE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37B-8908-4246-B620-339821F8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65A-858C-44C1-8BA6-9A6CB8C0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9CB7-BB93-428A-905B-7AE40A86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DF5-48DA-4012-B9C0-BEB39BE3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759-F8E0-447D-A574-71A95226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AD4-2783-4297-9D98-983F4034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07280" y="7086600"/>
            <a:ext cx="314280" cy="23184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703760"/>
            <a:ext cx="10077120" cy="2855520"/>
            <a:chOff x="3240" y="4703760"/>
            <a:chExt cx="10077120" cy="2855520"/>
          </a:xfrm>
        </p:grpSpPr>
        <p:sp>
          <p:nvSpPr>
            <p:cNvPr id="2" name=""/>
            <p:cNvSpPr/>
            <p:nvPr/>
          </p:nvSpPr>
          <p:spPr>
            <a:xfrm>
              <a:off x="3240" y="4703760"/>
              <a:ext cx="10077120" cy="28555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6174360" y="6500880"/>
              <a:ext cx="1385280" cy="911160"/>
              <a:chOff x="6174360" y="6500880"/>
              <a:chExt cx="1385280" cy="911160"/>
            </a:xfrm>
          </p:grpSpPr>
          <p:sp>
            <p:nvSpPr>
              <p:cNvPr id="4" name=""/>
              <p:cNvSpPr/>
              <p:nvPr/>
            </p:nvSpPr>
            <p:spPr>
              <a:xfrm>
                <a:off x="6452280" y="6666840"/>
                <a:ext cx="930600" cy="57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522480" y="6719400"/>
                <a:ext cx="790560" cy="48096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620400" y="6775200"/>
                <a:ext cx="601560" cy="3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690240" y="6817320"/>
                <a:ext cx="45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749640" y="6862680"/>
                <a:ext cx="335880" cy="18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58240" y="6500880"/>
                <a:ext cx="669960" cy="281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468120" y="7296840"/>
                <a:ext cx="776520" cy="1152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174360" y="6834600"/>
                <a:ext cx="155880" cy="37764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247440" y="6553080"/>
                <a:ext cx="1312200" cy="8060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066440" y="6511320"/>
                <a:ext cx="167760" cy="522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844320" y="6908400"/>
                <a:ext cx="146520" cy="9216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107880" y="6354000"/>
              <a:ext cx="2845080" cy="1194480"/>
              <a:chOff x="3107880" y="6354000"/>
              <a:chExt cx="2845080" cy="1194480"/>
            </a:xfrm>
          </p:grpSpPr>
          <p:sp>
            <p:nvSpPr>
              <p:cNvPr id="16" name=""/>
              <p:cNvSpPr/>
              <p:nvPr/>
            </p:nvSpPr>
            <p:spPr>
              <a:xfrm>
                <a:off x="3968640" y="6883920"/>
                <a:ext cx="1116720" cy="65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048920" y="6925680"/>
                <a:ext cx="950400" cy="58068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096080" y="6962400"/>
                <a:ext cx="876600" cy="52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143600" y="6994080"/>
                <a:ext cx="776880" cy="4507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173120" y="7008120"/>
                <a:ext cx="722520" cy="4194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264200" y="7044840"/>
                <a:ext cx="535680" cy="3355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332240" y="7097040"/>
                <a:ext cx="397080" cy="2358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448160" y="7169040"/>
                <a:ext cx="156960" cy="1044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523400" y="6687720"/>
                <a:ext cx="785520" cy="3250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748320" y="6740280"/>
                <a:ext cx="1560600" cy="80820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643200" y="6698160"/>
                <a:ext cx="712080" cy="85032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226840" y="7076160"/>
                <a:ext cx="188640" cy="44064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618360" y="6448320"/>
                <a:ext cx="1460880" cy="26208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267000" y="6742080"/>
                <a:ext cx="299160" cy="8064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163840" y="6563520"/>
                <a:ext cx="630000" cy="98460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056120" y="6354000"/>
                <a:ext cx="1886040" cy="7430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781600" y="7139160"/>
                <a:ext cx="171360" cy="4093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07880" y="6427080"/>
                <a:ext cx="841680" cy="11214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7224120" y="5879880"/>
              <a:ext cx="2364120" cy="1436040"/>
              <a:chOff x="7224120" y="5879880"/>
              <a:chExt cx="2364120" cy="1436040"/>
            </a:xfrm>
          </p:grpSpPr>
          <p:sp>
            <p:nvSpPr>
              <p:cNvPr id="35" name=""/>
              <p:cNvSpPr/>
              <p:nvPr/>
            </p:nvSpPr>
            <p:spPr>
              <a:xfrm>
                <a:off x="7350120" y="5952960"/>
                <a:ext cx="2101680" cy="12787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224120" y="5889960"/>
                <a:ext cx="951840" cy="128952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385840" y="5879880"/>
                <a:ext cx="1065600" cy="44064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180360" y="7011720"/>
                <a:ext cx="12600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884000" y="7127280"/>
                <a:ext cx="1233720" cy="18864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9338040" y="6393960"/>
                <a:ext cx="250200" cy="59652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857080" y="6341400"/>
                <a:ext cx="145080" cy="1573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778880" y="6215400"/>
                <a:ext cx="1254600" cy="7542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610760" y="6141960"/>
                <a:ext cx="1590480" cy="9327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86960" y="6110640"/>
                <a:ext cx="638640" cy="1152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10560" y="6226200"/>
                <a:ext cx="115200" cy="83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955640" y="6313320"/>
                <a:ext cx="906120" cy="55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011800" y="6351840"/>
                <a:ext cx="780120" cy="474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067600" y="6386760"/>
                <a:ext cx="675360" cy="407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144640" y="6436080"/>
                <a:ext cx="521280" cy="30924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07640" y="6471000"/>
                <a:ext cx="388440" cy="24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91520" y="6523200"/>
                <a:ext cx="220320" cy="14184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9240120" y="5291640"/>
              <a:ext cx="743400" cy="451080"/>
              <a:chOff x="9240120" y="5291640"/>
              <a:chExt cx="743400" cy="451080"/>
            </a:xfrm>
          </p:grpSpPr>
          <p:sp>
            <p:nvSpPr>
              <p:cNvPr id="53" name=""/>
              <p:cNvSpPr/>
              <p:nvPr/>
            </p:nvSpPr>
            <p:spPr>
              <a:xfrm>
                <a:off x="9240120" y="5574600"/>
                <a:ext cx="669960" cy="16812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301320" y="5291640"/>
                <a:ext cx="451080" cy="94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878760" y="5364720"/>
                <a:ext cx="104760" cy="2728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9406080" y="5679720"/>
                <a:ext cx="335880" cy="3132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281880" y="5322960"/>
                <a:ext cx="281520" cy="3254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9605880" y="5322960"/>
                <a:ext cx="325080" cy="3672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353880" y="5351040"/>
                <a:ext cx="522720" cy="3250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9416880" y="5398200"/>
                <a:ext cx="396720" cy="230400"/>
                <a:chOff x="9416880" y="5398200"/>
                <a:chExt cx="396720" cy="230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9416880" y="5398200"/>
                  <a:ext cx="396720" cy="23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9455040" y="5422680"/>
                  <a:ext cx="317880" cy="1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9504000" y="5439960"/>
                  <a:ext cx="218520" cy="14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9551160" y="5467680"/>
                  <a:ext cx="12744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87021384-EC23-4124-90BD-156ACC401AA9}" type="datetime">
              <a:rPr b="0" lang="en-US" sz="15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76B33480-A116-4566-84BD-3F5E0B622E01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703760"/>
            <a:ext cx="10077120" cy="2855520"/>
            <a:chOff x="3240" y="4703760"/>
            <a:chExt cx="10077120" cy="2855520"/>
          </a:xfrm>
        </p:grpSpPr>
        <p:sp>
          <p:nvSpPr>
            <p:cNvPr id="107" name=""/>
            <p:cNvSpPr/>
            <p:nvPr/>
          </p:nvSpPr>
          <p:spPr>
            <a:xfrm>
              <a:off x="3240" y="4703760"/>
              <a:ext cx="10077120" cy="28555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174360" y="6500880"/>
              <a:ext cx="1385280" cy="911160"/>
              <a:chOff x="6174360" y="6500880"/>
              <a:chExt cx="1385280" cy="911160"/>
            </a:xfrm>
          </p:grpSpPr>
          <p:sp>
            <p:nvSpPr>
              <p:cNvPr id="109" name=""/>
              <p:cNvSpPr/>
              <p:nvPr/>
            </p:nvSpPr>
            <p:spPr>
              <a:xfrm>
                <a:off x="6452280" y="6666840"/>
                <a:ext cx="930600" cy="57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22480" y="6719400"/>
                <a:ext cx="790560" cy="48096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20400" y="6775200"/>
                <a:ext cx="601560" cy="3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90240" y="6817320"/>
                <a:ext cx="45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749640" y="6862680"/>
                <a:ext cx="335880" cy="18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58240" y="6500880"/>
                <a:ext cx="669960" cy="281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68120" y="7296840"/>
                <a:ext cx="776520" cy="1152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74360" y="6834600"/>
                <a:ext cx="155880" cy="37764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247440" y="6553080"/>
                <a:ext cx="1312200" cy="8060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66440" y="6511320"/>
                <a:ext cx="167760" cy="522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44320" y="6908400"/>
                <a:ext cx="146520" cy="9216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107880" y="6354000"/>
              <a:ext cx="2845080" cy="1194480"/>
              <a:chOff x="3107880" y="6354000"/>
              <a:chExt cx="2845080" cy="1194480"/>
            </a:xfrm>
          </p:grpSpPr>
          <p:sp>
            <p:nvSpPr>
              <p:cNvPr id="121" name=""/>
              <p:cNvSpPr/>
              <p:nvPr/>
            </p:nvSpPr>
            <p:spPr>
              <a:xfrm>
                <a:off x="3968640" y="6883920"/>
                <a:ext cx="1116720" cy="65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48920" y="6925680"/>
                <a:ext cx="950400" cy="58068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096080" y="6962400"/>
                <a:ext cx="876600" cy="52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43600" y="6994080"/>
                <a:ext cx="776880" cy="4507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173120" y="7008120"/>
                <a:ext cx="722520" cy="4194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264200" y="7044840"/>
                <a:ext cx="535680" cy="3355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32240" y="7097040"/>
                <a:ext cx="397080" cy="2358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48160" y="7169040"/>
                <a:ext cx="156960" cy="1044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23400" y="6687720"/>
                <a:ext cx="785520" cy="3250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48320" y="6740280"/>
                <a:ext cx="1560600" cy="80820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643200" y="6698160"/>
                <a:ext cx="712080" cy="85032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226840" y="7076160"/>
                <a:ext cx="188640" cy="44064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618360" y="6448320"/>
                <a:ext cx="1460880" cy="26208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67000" y="6742080"/>
                <a:ext cx="299160" cy="8064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63840" y="6563520"/>
                <a:ext cx="630000" cy="98460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056120" y="6354000"/>
                <a:ext cx="1886040" cy="7430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781600" y="7139160"/>
                <a:ext cx="171360" cy="4093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07880" y="6427080"/>
                <a:ext cx="841680" cy="11214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224120" y="5879880"/>
              <a:ext cx="2364120" cy="1436040"/>
              <a:chOff x="7224120" y="5879880"/>
              <a:chExt cx="2364120" cy="1436040"/>
            </a:xfrm>
          </p:grpSpPr>
          <p:sp>
            <p:nvSpPr>
              <p:cNvPr id="140" name=""/>
              <p:cNvSpPr/>
              <p:nvPr/>
            </p:nvSpPr>
            <p:spPr>
              <a:xfrm>
                <a:off x="7350120" y="5952960"/>
                <a:ext cx="2101680" cy="12787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224120" y="5889960"/>
                <a:ext cx="951840" cy="128952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85840" y="5879880"/>
                <a:ext cx="1065600" cy="44064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180360" y="7011720"/>
                <a:ext cx="12600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84000" y="7127280"/>
                <a:ext cx="1233720" cy="18864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338040" y="6393960"/>
                <a:ext cx="250200" cy="59652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57080" y="6341400"/>
                <a:ext cx="145080" cy="1573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78880" y="6215400"/>
                <a:ext cx="1254600" cy="7542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610760" y="6141960"/>
                <a:ext cx="1590480" cy="9327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86960" y="6110640"/>
                <a:ext cx="638640" cy="1152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10560" y="6226200"/>
                <a:ext cx="115200" cy="83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955640" y="6313320"/>
                <a:ext cx="906120" cy="55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11800" y="6351840"/>
                <a:ext cx="780120" cy="474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67600" y="6386760"/>
                <a:ext cx="675360" cy="407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144640" y="6436080"/>
                <a:ext cx="521280" cy="30924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207640" y="6471000"/>
                <a:ext cx="388440" cy="24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291520" y="6523200"/>
                <a:ext cx="220320" cy="14184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9240120" y="5291640"/>
              <a:ext cx="743400" cy="451080"/>
              <a:chOff x="9240120" y="5291640"/>
              <a:chExt cx="743400" cy="451080"/>
            </a:xfrm>
          </p:grpSpPr>
          <p:sp>
            <p:nvSpPr>
              <p:cNvPr id="158" name=""/>
              <p:cNvSpPr/>
              <p:nvPr/>
            </p:nvSpPr>
            <p:spPr>
              <a:xfrm>
                <a:off x="9240120" y="5574600"/>
                <a:ext cx="669960" cy="16812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301320" y="5291640"/>
                <a:ext cx="451080" cy="94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878760" y="5364720"/>
                <a:ext cx="104760" cy="2728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406080" y="5679720"/>
                <a:ext cx="335880" cy="3132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281880" y="5322960"/>
                <a:ext cx="281520" cy="3254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605880" y="5322960"/>
                <a:ext cx="325080" cy="3672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353880" y="5351040"/>
                <a:ext cx="522720" cy="3250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9416880" y="5398200"/>
                <a:ext cx="396720" cy="230400"/>
                <a:chOff x="9416880" y="5398200"/>
                <a:chExt cx="396720" cy="2304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9416880" y="5398200"/>
                  <a:ext cx="396720" cy="23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455040" y="5422680"/>
                  <a:ext cx="317880" cy="1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9504000" y="5439960"/>
                  <a:ext cx="218520" cy="14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9551160" y="5467680"/>
                  <a:ext cx="12744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64800"/>
            <a:ext cx="8569440" cy="191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3BA556FC-D75B-4A06-9F5E-2CB9EA69C606}" type="datetime">
              <a:rPr b="0" lang="en-US" sz="15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A0DA53B5-710E-4487-BE44-2E6CC6933F90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08000" algn="ctr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11280" algn="ctr">
              <a:spcBef>
                <a:spcPts val="550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16000" algn="ctr"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864800"/>
            <a:ext cx="8569440" cy="191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Bases de TCP/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Direccionamiento y ruteo de TCP/I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MAC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MAC (Control de Acceso al Medio) son direcciones únicas dadas a los clientes de una 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primera parte de la dirección MAC es asignada al fabricante del hardwa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resto de la dirección es determinada por cada fabrica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positivos que no son administrables (ejemplo, HUBs y algunos switches) no tienen dirección MA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MAC son usadas para direccionar en la capa de enlace de datos (capa 2) del modelo de red O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MAC no son usadas para agrupa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dentro de una 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alogía: Las direcciones MAC son como el numero de CURP de cada perso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IP son usadas para el direccionamiento lógico en la capa de red (capa 3) del modelo de red O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al como las direcciones MAC donde no hay similitud entre 2 direcciones, con la diferencia que las direcciones IP permiten agrupar computado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recciones 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Únicas, dirección de 32 b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referenciadas por humanos vía notación decimal, un numero por cada 8 bits (1 octeto o byte), ejemplo., 159.148.147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ste de tres clases primarias A, B, and C (clase D es para multicast) en la forma [netid:hosti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alogía: Direcciones IP son como la dirección postal de cada perso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lases de direcciones 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115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Los primeros 3 bits de una dirección IP hacen la cla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152360" y="2916360"/>
          <a:ext cx="7848360" cy="3703680"/>
        </p:xfrm>
        <a:graphic>
          <a:graphicData uri="http://schemas.openxmlformats.org/drawingml/2006/table">
            <a:tbl>
              <a:tblPr/>
              <a:tblGrid>
                <a:gridCol w="2344680"/>
                <a:gridCol w="1220760"/>
                <a:gridCol w="1314360"/>
                <a:gridCol w="1501920"/>
                <a:gridCol w="1466640"/>
              </a:tblGrid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.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XX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t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X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Broadca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ción multic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lases de Red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03280" y="1908000"/>
          <a:ext cx="9072360" cy="4264200"/>
        </p:xfrm>
        <a:graphic>
          <a:graphicData uri="http://schemas.openxmlformats.org/drawingml/2006/table">
            <a:tbl>
              <a:tblPr/>
              <a:tblGrid>
                <a:gridCol w="1944720"/>
                <a:gridCol w="3313080"/>
                <a:gridCol w="3814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o de direc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127.0.0.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-127.XXX.XXX.XXX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.xxx.0.0 - 191.xxx.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.0.0.0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.255.255.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xxx.yyy.0 - 223.xxx.yyy.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0.0.0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3.255.255.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c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.xxx.yyy.zzz - 239.xxx.yyy.zz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.0.0.0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.255.255.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Sub-red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-3664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Redes IP dadas, pueden dividirse en redes mas pequeñas, llamadas sub-red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El tamaño de una subred es determinada por la mascara de red (mascara de sub-red, mascara de red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Mascaras de sub-redes tienen el hostid con todos los bits=0, y el netid con todos los bits=1, por ejemplo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30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111111 11111111 11111111 10000000 (255.255.255.1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30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111111 11111111 11111111 00000000 (255.255.255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30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111111 11111111 00000000 00000000 (255.255.0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de 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La operación lógica AND es usada para calcular la dirección de red desde direcciones de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 y mascara de red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10100101 (h:128.192.10.1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1111111 11111111 11111111 00000000 (s:255.255.255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00000000 (n:128.192.10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Calcula la dirección de red del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, si la mascara es de 26 bits (use la dirección de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 del ejemplo pasado)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10100101 (h:128.192.10.1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1111111 11111111 11111111 11000000 (s:255.255.255.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________ (n:128.192.10.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spacio de direccionamiento y sub-red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93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direcciones para hosts están disponibles cuando dividimos una red de 24 bits en sub-re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719280" y="3132000"/>
          <a:ext cx="8785080" cy="3700440"/>
        </p:xfrm>
        <a:graphic>
          <a:graphicData uri="http://schemas.openxmlformats.org/drawingml/2006/table">
            <a:tbl>
              <a:tblPr/>
              <a:tblGrid>
                <a:gridCol w="1222200"/>
                <a:gridCol w="2448000"/>
                <a:gridCol w="1297080"/>
                <a:gridCol w="1298520"/>
                <a:gridCol w="1297080"/>
                <a:gridCol w="122220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ts en re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m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-red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s/ subre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s disponib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from 25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1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19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4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5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Punto a Pun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s proporcionan un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 efectivo uso del espacio de direccionami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Pueden ser usadas en comunicaciones punto a punto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ente A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rección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6.1/3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7.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B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rección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7.1/3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6.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Broadcas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rección de broadcast es usada para “hablar” con todos lo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la 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rección broadcast es una dirección con la porción del h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liente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nfigurada solo con 1’s,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8.192.10.255 para la red 128.192.10.0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8.192.10.191 para la red  128.192.10.128/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roadcasts son necesarios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er comunicación inicial con o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ejemplo, resolución de dir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DHCP y asignación de dir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456000" y="3995640"/>
            <a:ext cx="3887280" cy="1800000"/>
            <a:chOff x="3456000" y="3995640"/>
            <a:chExt cx="3887280" cy="1800000"/>
          </a:xfrm>
        </p:grpSpPr>
        <p:sp>
          <p:nvSpPr>
            <p:cNvPr id="215" name=""/>
            <p:cNvSpPr/>
            <p:nvPr/>
          </p:nvSpPr>
          <p:spPr>
            <a:xfrm>
              <a:off x="3666240" y="4795560"/>
              <a:ext cx="630000" cy="299160"/>
            </a:xfrm>
            <a:prstGeom prst="cube">
              <a:avLst>
                <a:gd name="adj" fmla="val 25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56000" y="3995640"/>
              <a:ext cx="418680" cy="400680"/>
            </a:xfrm>
            <a:prstGeom prst="can">
              <a:avLst>
                <a:gd name="adj" fmla="val 25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10880" y="3995640"/>
              <a:ext cx="632160" cy="299520"/>
            </a:xfrm>
            <a:prstGeom prst="rect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06840" y="4995720"/>
              <a:ext cx="629280" cy="299520"/>
            </a:xfrm>
            <a:prstGeom prst="rect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00280" y="4695840"/>
              <a:ext cx="18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5" idx="5"/>
              <a:endCxn id="217" idx="1"/>
            </p:cNvCxnSpPr>
            <p:nvPr/>
          </p:nvCxnSpPr>
          <p:spPr>
            <a:xfrm flipV="1">
              <a:off x="4296240" y="4145040"/>
              <a:ext cx="31500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1" name=""/>
            <p:cNvCxnSpPr>
              <a:stCxn id="215" idx="5"/>
              <a:endCxn id="218" idx="1"/>
            </p:cNvCxnSpPr>
            <p:nvPr/>
          </p:nvCxnSpPr>
          <p:spPr>
            <a:xfrm>
              <a:off x="4296600" y="4907160"/>
              <a:ext cx="210960" cy="23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215" idx="0"/>
              <a:endCxn id="216" idx="3"/>
            </p:cNvCxnSpPr>
            <p:nvPr/>
          </p:nvCxnSpPr>
          <p:spPr>
            <a:xfrm flipH="1" flipV="1">
              <a:off x="3665880" y="4395960"/>
              <a:ext cx="354960" cy="39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3" name=""/>
            <p:cNvSpPr/>
            <p:nvPr/>
          </p:nvSpPr>
          <p:spPr>
            <a:xfrm>
              <a:off x="3771000" y="5394600"/>
              <a:ext cx="418680" cy="401040"/>
            </a:xfrm>
            <a:prstGeom prst="can">
              <a:avLst>
                <a:gd name="adj" fmla="val 25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15" idx="3"/>
              <a:endCxn id="223" idx="1"/>
            </p:cNvCxnSpPr>
            <p:nvPr/>
          </p:nvCxnSpPr>
          <p:spPr>
            <a:xfrm>
              <a:off x="3941640" y="5094720"/>
              <a:ext cx="39960" cy="30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5977080" y="4396320"/>
              <a:ext cx="1154880" cy="1099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70520" y="439632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70520" y="4995720"/>
              <a:ext cx="421560" cy="40068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6720" y="519624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21720" y="469584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06720" y="419580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17" idx="3"/>
              <a:endCxn id="226" idx="1"/>
            </p:cNvCxnSpPr>
            <p:nvPr/>
          </p:nvCxnSpPr>
          <p:spPr>
            <a:xfrm>
              <a:off x="5243040" y="4145400"/>
              <a:ext cx="734400" cy="45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32" name=""/>
          <p:cNvSpPr/>
          <p:nvPr/>
        </p:nvSpPr>
        <p:spPr>
          <a:xfrm>
            <a:off x="504720" y="1763640"/>
            <a:ext cx="9072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Una red 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  <a:ea typeface="Arial"/>
              </a:rPr>
              <a:t>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usualmente 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  <a:ea typeface="Arial"/>
              </a:rPr>
              <a:t>considerada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como un medio fisico que interconecta dispositivos que pueden transferir datos entre ell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ominio Broadcas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 dominio de broadcast es parte de la red que puede “oír” trafico de broadcast generado en los hosts de la r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Redes remotas pueden incorporarse dentro de un bridge sobre un túnel para crear un dominio de broadcas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protocolo ARP (Protocolo de resolución de direcciones) es usado para asociar direcciones MAC con direcciones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proceso de ARP funciona de la siguiente mane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solicitante de ARP manda u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quete (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 broadcast con la información del la ip destino, la ip origen y la dirección MAC, preguntando por la dirección MAC desti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cliente con la dirección ip destino manda un frame directo de regreso al solicitante llenando en el su dirección MAC y guardando la dirección MAC de el  en la tabla ARP o ca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a minimizar los broadcasts debidos a requisiciones tipo ARP, las direcciones ip de los clientes y los gateways guardan tablas de direcciones MAC y direcciones IP llamadas tablas de arp o cac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Puertos TCP/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67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Una vez que los datos han arribado a su destino, los puertos de tcp/ip definen cual servicio o propósito tiene dicho trafico. Los puertos so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ositivos, números enteros de 16 bits (1…65535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uertos muy conocidos son del 1…1023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;21 - F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2 - S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3 - Tel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 - SM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0 - HT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0 - POP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43 – HT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uertos definidos por el usuario son del 1024…6553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onexiones TC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conexión TCP es definida como el par de números (ip_origen:puerto) y  (ip_destino:puerto)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Conexiones diferentes pueden usar el mismo puerto de destino en el server siempre y cuando los puertos origen o la ip origen sean diferent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stablecimiento de conexiones TC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6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conexión TCP es establecida usando un “proceso de 3 vías“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liente manda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 requisición de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SY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erver responde con SYN,AC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liente manda un AC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80000" y="4356000"/>
            <a:ext cx="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64360" y="4356000"/>
            <a:ext cx="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40360" y="4427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80360" y="4427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80000" y="435600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0000" y="558000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80000" y="5003640"/>
            <a:ext cx="1584360" cy="576360"/>
          </a:xfrm>
          <a:prstGeom prst="leftArrow">
            <a:avLst>
              <a:gd name="adj1" fmla="val 70250"/>
              <a:gd name="adj2" fmla="val 4379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,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Mandando Dato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47516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CP divide e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jo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 datos en seg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que envía manda datos en en seg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que recibe da acuse de reci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que manda, manda el siguiente segment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no se recibe acuse de recibo, el segmento de datos se vuelve a ma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caso que la conexión sea abortada, una bandera RTS es usada para notificarle al que 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69080" y="1908000"/>
            <a:ext cx="0" cy="374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53440" y="1908000"/>
            <a:ext cx="0" cy="36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27640" y="197964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569440" y="1979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69080" y="1908000"/>
            <a:ext cx="1584360" cy="648000"/>
          </a:xfrm>
          <a:prstGeom prst="rightArrow">
            <a:avLst>
              <a:gd name="adj1" fmla="val 63722"/>
              <a:gd name="adj2" fmla="val 34298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69080" y="3132000"/>
            <a:ext cx="1584360" cy="648000"/>
          </a:xfrm>
          <a:prstGeom prst="rightArrow">
            <a:avLst>
              <a:gd name="adj1" fmla="val 63722"/>
              <a:gd name="adj2" fmla="val 34298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69080" y="2556000"/>
            <a:ext cx="1584360" cy="576000"/>
          </a:xfrm>
          <a:prstGeom prst="leftArrow">
            <a:avLst>
              <a:gd name="adj1" fmla="val 70250"/>
              <a:gd name="adj2" fmla="val 4381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69080" y="3780000"/>
            <a:ext cx="1584360" cy="576000"/>
          </a:xfrm>
          <a:prstGeom prst="leftArrow">
            <a:avLst>
              <a:gd name="adj1" fmla="val 70250"/>
              <a:gd name="adj2" fmla="val 43819"/>
            </a:avLst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no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69080" y="435600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69080" y="5003640"/>
            <a:ext cx="1584360" cy="576360"/>
          </a:xfrm>
          <a:prstGeom prst="leftArrow">
            <a:avLst>
              <a:gd name="adj1" fmla="val 70250"/>
              <a:gd name="adj2" fmla="val 4379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errando conexiones TC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59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conexión TCP es cerrada usando un proceso modificado de 3 ví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que inicia, manda una petición de 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que recibe responde con un acuse de recibo, con un FIN y una solicitud de acuse de recibo 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it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it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anda el acuse de recib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80000" y="4427640"/>
            <a:ext cx="0" cy="244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64360" y="4354560"/>
            <a:ext cx="0" cy="252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4572000"/>
            <a:ext cx="16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i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09080" y="4500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80000" y="442764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80000" y="6227640"/>
            <a:ext cx="1584360" cy="648000"/>
          </a:xfrm>
          <a:prstGeom prst="rightArrow">
            <a:avLst>
              <a:gd name="adj1" fmla="val 63722"/>
              <a:gd name="adj2" fmla="val 34298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80000" y="5651640"/>
            <a:ext cx="1584360" cy="576000"/>
          </a:xfrm>
          <a:prstGeom prst="leftArrow">
            <a:avLst>
              <a:gd name="adj1" fmla="val 70250"/>
              <a:gd name="adj2" fmla="val 4381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,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80000" y="5146560"/>
            <a:ext cx="1584360" cy="576360"/>
          </a:xfrm>
          <a:prstGeom prst="leftArrow">
            <a:avLst>
              <a:gd name="adj1" fmla="val 70250"/>
              <a:gd name="adj2" fmla="val 4379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Puede una red interna de un país ser considerada una intrane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i / No, Ejemplos ___________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Que dispositivos extienden un dominio de Broadcas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Que dispositivos deben ser usados para limitar un dominio de Broadcas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LANs y WAN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red de área local (LAN) usualmente esta limitada a un area limitada, ejemplo, dentro de un edificio o territorio local como un campus de universidad y puede consistir de una o mas redes físicas interconectada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red de área amplia es una serie de LANS interconectadas y que se distribuye sobre un gran territorio o distancia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Intranets e Internet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Las redes de acuerdo al control administrativo que tienen están clasificadas como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Intrane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Una Intranet son LANs o una WAN bajo un solo control administrativo y usualmente provee servicios para uso interno dentro de una organizació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Internet es una serie de of WANs interconectadas por diferentes tipos de medio y no tiene un solo control administrativ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Protocolos de 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dispositivos usan protocolos para comunicarse entr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CP/IP (Internetwork Protocol) es el principal y mas usado de los protocolos de red para que ellos se comuniqu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CP/IP ha sido diseñado para mante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a dispon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ependiente de cualquier plata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ependiente de cualquier tipo de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tros protocolos de red son netBEUI, IPX/SPX, y Applet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ncapsulación e 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107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capsulación es el concepto principal del diseño de 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capsulación significa poner una cosa dentro de otra 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904000" y="3924360"/>
            <a:ext cx="160020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rot="10800000">
            <a:off x="609120" y="3962160"/>
            <a:ext cx="792360" cy="1150920"/>
          </a:xfrm>
          <a:prstGeom prst="foldedCorner">
            <a:avLst>
              <a:gd name="adj" fmla="val 27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etter"/>
          <p:cNvSpPr/>
          <p:nvPr/>
        </p:nvSpPr>
        <p:spPr>
          <a:xfrm>
            <a:off x="1676520" y="4038480"/>
            <a:ext cx="1623960" cy="851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505320"/>
            <a:ext cx="1584360" cy="503280"/>
          </a:xfrm>
          <a:custGeom>
            <a:avLst/>
            <a:gdLst>
              <a:gd name="textAreaLeft" fmla="*/ 267840 w 1584360"/>
              <a:gd name="textAreaRight" fmla="*/ 1176840 w 15843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04" hR="21600" stAng="10800000" swAng="5400000"/>
                <a:lnTo>
                  <a:pt x="12392" y="0"/>
                </a:lnTo>
                <a:arcTo wR="7304" hR="21600" stAng="-5400000" swAng="2787353"/>
                <a:lnTo>
                  <a:pt x="21250" y="14991"/>
                </a:lnTo>
                <a:lnTo>
                  <a:pt x="17152" y="21600"/>
                </a:lnTo>
                <a:lnTo>
                  <a:pt x="12354" y="14991"/>
                </a:lnTo>
                <a:lnTo>
                  <a:pt x="14258" y="14991"/>
                </a:lnTo>
                <a:arcTo wR="7304" hR="21600" stAng="-2612647" swAng="-2357668"/>
                <a:lnTo>
                  <a:pt x="9848" y="1353"/>
                </a:lnTo>
                <a:arcTo wR="7304" hR="21600" stAng="-5829685" swAng="-4970315"/>
                <a:close/>
              </a:path>
              <a:path fill="darkenLess" w="21600" h="21600">
                <a:moveTo>
                  <a:pt x="0" y="21600"/>
                </a:moveTo>
                <a:arcTo wR="7304" hR="21600" stAng="10800000" swAng="5400000"/>
                <a:lnTo>
                  <a:pt x="7304" y="0"/>
                </a:lnTo>
                <a:arcTo wR="7304" hR="21600" stAng="-5400000" swAng="429685"/>
                <a:lnTo>
                  <a:pt x="9848" y="1353"/>
                </a:lnTo>
                <a:arcTo wR="7304" hR="21600" stAng="-5829685" swAng="-4970315"/>
                <a:close/>
              </a:path>
            </a:pathLst>
          </a:cu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2690600">
            <a:off x="8640360" y="2842560"/>
            <a:ext cx="792360" cy="1150920"/>
          </a:xfrm>
          <a:prstGeom prst="foldedCorner">
            <a:avLst>
              <a:gd name="adj" fmla="val 27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6248520"/>
            <a:ext cx="4105440" cy="718920"/>
          </a:xfrm>
          <a:custGeom>
            <a:avLst/>
            <a:gdLst>
              <a:gd name="textAreaLeft" fmla="*/ 823680 w 4105440"/>
              <a:gd name="textAreaRight" fmla="*/ 2871000 w 410544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69" hR="21600" stAng="10800000" swAng="-5400000"/>
                <a:lnTo>
                  <a:pt x="10772" y="21600"/>
                </a:lnTo>
                <a:arcTo wR="8669" hR="21600" stAng="5400000" swAng="-2917241"/>
                <a:lnTo>
                  <a:pt x="21104" y="7200"/>
                </a:lnTo>
                <a:lnTo>
                  <a:pt x="18389" y="0"/>
                </a:lnTo>
                <a:lnTo>
                  <a:pt x="14681" y="7200"/>
                </a:lnTo>
                <a:lnTo>
                  <a:pt x="16841" y="7200"/>
                </a:lnTo>
                <a:arcTo wR="8669" hR="21600" stAng="2482759" swAng="2748779"/>
                <a:lnTo>
                  <a:pt x="9720" y="21440"/>
                </a:lnTo>
                <a:arcTo wR="8669" hR="21600" stAng="5568461" swAng="5231539"/>
                <a:close/>
              </a:path>
              <a:path fill="darkenLess" w="21600" h="21600">
                <a:moveTo>
                  <a:pt x="0" y="0"/>
                </a:moveTo>
                <a:arcTo wR="8669" hR="21600" stAng="10800000" swAng="-5400000"/>
                <a:lnTo>
                  <a:pt x="10772" y="21600"/>
                </a:lnTo>
                <a:arcTo wR="8669" hR="21600" stAng="5400000" swAng="168461"/>
                <a:lnTo>
                  <a:pt x="9720" y="21440"/>
                </a:lnTo>
                <a:arcTo wR="8669" hR="21600" stAng="5568461" swAng="5231539"/>
                <a:close/>
              </a:path>
            </a:pathLst>
          </a:cu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4952880"/>
            <a:ext cx="1224000" cy="129708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59200" y="44751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96080" y="4572000"/>
            <a:ext cx="1225800" cy="360360"/>
          </a:xfrm>
          <a:custGeom>
            <a:avLst/>
            <a:gdLst>
              <a:gd name="textAreaLeft" fmla="*/ 214560 w 1225800"/>
              <a:gd name="textAreaRight" fmla="*/ 888840 w 12258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etter"/>
          <p:cNvSpPr/>
          <p:nvPr/>
        </p:nvSpPr>
        <p:spPr>
          <a:xfrm>
            <a:off x="8229600" y="3505320"/>
            <a:ext cx="1623960" cy="8506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stándar OS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l Estándar Open System Interconnection (OSI) fue originalmente usado cuando se crearon los protocolos de red (tales como TCP/IP e IPX, etc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l Estándar OSI usa un modelo de 7 capas de red para describir el direccionamiento de red, análisis de datos, y capacidades de red del diferente hardwa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Los beneficios de usar un modelo de capas s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3480" indent="-290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da capa del modelo OSI es responsable de ciertas tareas especi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3480" indent="-290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erentes tecnologías pueden convivir de una manera estandar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907236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Modelo OSI de 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429000" y="2133720"/>
          <a:ext cx="3581280" cy="394488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Aplicació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Presentació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Sesió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Transporte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Re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Enlace de datos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Física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2514600" y="2133720"/>
            <a:ext cx="576360" cy="3128760"/>
          </a:xfrm>
          <a:prstGeom prst="downArrow">
            <a:avLst>
              <a:gd name="adj1" fmla="val 56472"/>
              <a:gd name="adj2" fmla="val 52953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0800000">
            <a:off x="7314840" y="2133720"/>
            <a:ext cx="576360" cy="3124080"/>
          </a:xfrm>
          <a:prstGeom prst="downArrow">
            <a:avLst>
              <a:gd name="adj1" fmla="val 56472"/>
              <a:gd name="adj2" fmla="val 5287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752480"/>
            <a:ext cx="214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sión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64360" y="176364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pción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5486400"/>
            <a:ext cx="576000" cy="720720"/>
          </a:xfrm>
          <a:prstGeom prst="rightArrow">
            <a:avLst>
              <a:gd name="adj1" fmla="val 49778"/>
              <a:gd name="adj2" fmla="val 58125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5486400"/>
            <a:ext cx="576360" cy="720720"/>
          </a:xfrm>
          <a:prstGeom prst="rightArrow">
            <a:avLst>
              <a:gd name="adj1" fmla="val 49778"/>
              <a:gd name="adj2" fmla="val 58125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apas del Modelo OS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90400" indent="-590400">
              <a:spcBef>
                <a:spcPts val="67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Un buen entendimiento de las primeras 3 capas de red es requerido para entender los conceptos básicos de red, como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so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 de puertos, firewall, y NA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514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1) La capa física son las conexiones físicas (cables, tarjetas de red y dispositivos que levantan la 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514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2) La capa de enlace de datos transfiere paquetes dentro de raw bits para ser transmitidos sobre la capa fís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514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3) La capa de red es responsable del direccionamiento ló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fonso Urbina Araux</cp:lastModifiedBy>
  <dcterms:modified xsi:type="dcterms:W3CDTF">2006-02-23T19:58:43Z</dcterms:modified>
  <cp:revision>83</cp:revision>
  <dc:subject/>
  <dc:title>TCP/IP Basics</dc:title>
</cp:coreProperties>
</file>